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7A6F-A9CC-4394-9AE1-C6E3249A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874-3B19-468E-BAB1-D0B68D64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634-84D3-495E-A55D-3DA10A13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BA7-6334-415E-8EDC-DCA999CC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3A4-5BBC-4EC0-99ED-35F2222D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704C-8ACE-4F01-8201-60292738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3038-A991-4792-89E0-49823FD1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CE4E-2C07-4BE4-BEC5-C3E0A676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D48D-EC17-4518-9479-8136C35D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FE7-4F59-4404-A540-62DAC433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9722-A6D0-4494-BABA-2CBD7D2A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D0A9-BC9E-45D9-9288-6DDE62C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A55-4356-4FA9-B359-D8E5756C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6C98-2939-43A0-9B39-A680C1D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5FEE-9B23-4F06-A389-47E8426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F01F-04F2-490A-A480-38D39E5D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A2EC-41BB-4DAA-9DF6-783E2CA6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8F8-EE69-402B-BC4F-BD9759F3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3A2-34BD-4E63-8155-9037986B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623-ADE4-41C0-A30B-87BCDF1E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862-5E2A-454B-83A2-17D63BA1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3F1-AF0B-46AA-899B-773BDC3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A05-F965-474C-A52F-6A4D6CA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ACC-0265-4D44-A2BE-186EA00E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093-6FEB-4951-A7B8-0723AF5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4626-DC6A-4116-BCB3-BB452A9CEB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9A5-3B1B-4F20-BF01-E8140744A9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Savremeni kontekst konstrukcija i životne sredi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cepcija novostvorene vrednosti- objekta, korišćenje prirodnih vrednosti, treba da omogući poboljšanja uslova životne sred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oše koncipirani objekat (prevelike deformacije, nepovoljan nivo vibracija, buka, i sl) može negativno uticati na životnu sredin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7e7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b7e7ff"/>
                </a:solidFill>
                <a:latin typeface="Arial"/>
              </a:rPr>
              <a:t>RORAČUN KONSTRUKCIJA</a:t>
            </a:r>
            <a:br>
              <a:rPr sz="3200"/>
            </a:br>
            <a:r>
              <a:rPr b="0" lang="sr-Latn-CS" sz="3200" spc="-1" strike="noStrike">
                <a:solidFill>
                  <a:srgbClr val="ee941c"/>
                </a:solidFill>
                <a:latin typeface="Arial"/>
              </a:rPr>
              <a:t>PRORAČUN DEJSTAVA NA KONSTRUKCIJ</a:t>
            </a: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ee941c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fb0f20"/>
                </a:solidFill>
                <a:latin typeface="Arial"/>
              </a:rPr>
              <a:t>AKCIJA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80880" y="762120"/>
            <a:ext cx="952488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rste opterećenj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e941c"/>
                </a:solidFill>
                <a:latin typeface="Arial"/>
              </a:rPr>
              <a:t>         </a:t>
            </a:r>
            <a:r>
              <a:rPr b="0" lang="sr-Latn-CS" sz="2800" spc="-1" strike="noStrike">
                <a:solidFill>
                  <a:srgbClr val="ee941c"/>
                </a:solidFill>
                <a:latin typeface="Arial"/>
              </a:rPr>
              <a:t>(promena u vremenu i prostoru)</a:t>
            </a:r>
            <a:r>
              <a:rPr b="0" lang="pt-BR" sz="2800" spc="-1" strike="noStrike">
                <a:solidFill>
                  <a:srgbClr val="ee941c"/>
                </a:solidFill>
                <a:latin typeface="Arial"/>
              </a:rPr>
              <a:t>,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sr-Latn-CS" sz="2800" spc="-1" strike="noStrike">
                <a:solidFill>
                  <a:srgbClr val="00cc99"/>
                </a:solidFill>
                <a:latin typeface="Arial"/>
              </a:rPr>
              <a:t>stalna-(dugotraj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cc99"/>
                </a:solidFill>
                <a:latin typeface="Arial"/>
              </a:rPr>
              <a:t>        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sr-Latn-CS" sz="2800" spc="-1" strike="noStrike">
                <a:solidFill>
                  <a:srgbClr val="00cc99"/>
                </a:solidFill>
                <a:latin typeface="Arial"/>
              </a:rPr>
              <a:t>- promenljiva-(dugotrajna i kratkotrajana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cc99"/>
                </a:solidFill>
                <a:latin typeface="Arial"/>
              </a:rPr>
              <a:t>                                          </a:t>
            </a:r>
            <a:r>
              <a:rPr b="0" i="1" lang="sr-Latn-CS" sz="2800" spc="-1" strike="noStrike">
                <a:solidFill>
                  <a:srgbClr val="00cc99"/>
                </a:solidFill>
                <a:latin typeface="Arial"/>
              </a:rPr>
              <a:t>-pokretna i nepokret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cc99"/>
                </a:solidFill>
                <a:latin typeface="Arial"/>
              </a:rPr>
              <a:t>        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i="1" lang="sr-Latn-CS" sz="2800" spc="-1" strike="noStrike">
                <a:solidFill>
                  <a:srgbClr val="00cc99"/>
                </a:solidFill>
                <a:latin typeface="Arial"/>
              </a:rPr>
              <a:t>- incidentna-(trenut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način dejstva </a:t>
            </a:r>
            <a:r>
              <a:rPr b="0" lang="pt-BR" sz="2800" spc="-1" strike="noStrike">
                <a:solidFill>
                  <a:srgbClr val="ee941c"/>
                </a:solidFill>
                <a:latin typeface="Arial"/>
              </a:rPr>
              <a:t>(statičko-</a:t>
            </a:r>
            <a:r>
              <a:rPr b="0" lang="sr-Latn-CS" sz="2800" spc="-1" strike="noStrike">
                <a:solidFill>
                  <a:srgbClr val="ee941c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ee941c"/>
                </a:solidFill>
                <a:latin typeface="Arial"/>
              </a:rPr>
              <a:t>dinamičko)</a:t>
            </a:r>
            <a:r>
              <a:rPr b="0" lang="sr-Latn-CS" sz="2800" spc="-1" strike="noStrike">
                <a:solidFill>
                  <a:srgbClr val="ee941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ičine opte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j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jstvo temperature, promena vlažnosti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prečene deformacije,nejednko sleg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trakter opterećenja </a:t>
            </a:r>
            <a:r>
              <a:rPr b="0" lang="sr-Latn-CS" sz="2800" spc="-1" strike="noStrike">
                <a:solidFill>
                  <a:srgbClr val="ee941c"/>
                </a:solidFill>
                <a:latin typeface="Arial"/>
              </a:rPr>
              <a:t>(osnovna, dopunska i izuzet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e941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e941c"/>
                </a:solidFill>
                <a:latin typeface="Arial"/>
              </a:rPr>
              <a:t>PRORAČUN</a:t>
            </a:r>
            <a:r>
              <a:rPr b="0" lang="pt-BR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ee941c"/>
                </a:solidFill>
                <a:latin typeface="Arial"/>
              </a:rPr>
              <a:t>ODGOVORA KONSTRUKCI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e941c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PRORAČUN UNUTRAŠNJIH SILA (MT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e941c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ee941c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RAČU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OSIVOSTI (resist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ffcc00"/>
                </a:solidFill>
                <a:latin typeface="Arial"/>
              </a:rPr>
              <a:t>SVOJSTA MATERIJALA ELEMEN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i="1" lang="sr-Latn-CS" sz="2000" spc="-1" strike="noStrike">
                <a:solidFill>
                  <a:srgbClr val="ffcc00"/>
                </a:solidFill>
                <a:latin typeface="Arial"/>
              </a:rPr>
              <a:t>KONSTRUKCIJE I T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PRORAČUN NAPREZANJA, DEFORM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VIBRACIJA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PRORAČUN DIMENZIJA POPREČNIH PRESE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 VEZA  ELEME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PRORAČUN LOKALNIH OŠTEĆE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7e7ff"/>
                </a:solidFill>
                <a:latin typeface="Arial"/>
              </a:rPr>
              <a:t>koncepti proračuna konstrukcij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. Proračun prema dopuštenim napon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U konstrukcijma dopušteni napon  definisan je odnosom garantovane srednje čvrstoće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aterijala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pri slomu koja se dobija laboratorijskim ispitivanjem standardnih uzoraka i koeficijenata sigurnosti </a:t>
            </a:r>
            <a:r>
              <a:rPr b="0" lang="sr-CS" sz="4000" spc="-1" strike="noStrike">
                <a:solidFill>
                  <a:srgbClr val="a50021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sr-CS" sz="2800" spc="-1" strike="noStrike">
                <a:solidFill>
                  <a:srgbClr val="ffffff"/>
                </a:solidFill>
                <a:latin typeface="Arial"/>
              </a:rPr>
              <a:t>(n=1,5-1,33).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sr-CS" sz="2800" spc="-1" strike="noStrike">
                <a:solidFill>
                  <a:srgbClr val="ffffff"/>
                </a:solidFill>
                <a:latin typeface="Arial"/>
              </a:rPr>
              <a:t>(n=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2,0</a:t>
            </a:r>
            <a:r>
              <a:rPr b="0" i="1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4,0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drvo</a:t>
            </a:r>
            <a:r>
              <a:rPr b="0" i="1" lang="sr-CS" sz="28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dr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Arial"/>
              </a:rPr>
              <a:t>(n = 2,5 - 4)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snovni</a:t>
            </a:r>
            <a:r>
              <a:rPr b="0" lang="sr-C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uslov</a:t>
            </a: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prema dopuštenim naponima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arn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pon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ormacij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datom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jnepovoljnijem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er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u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j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u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og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nos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4800" spc="-1" strike="noStrike">
                <a:solidFill>
                  <a:srgbClr val="a50021"/>
                </a:solidFill>
                <a:latin typeface="Arial"/>
                <a:ea typeface="Arial"/>
              </a:rPr>
              <a:t>σ</a:t>
            </a:r>
            <a:r>
              <a:rPr b="0" lang="sr-Latn-CS" sz="4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sr-Latn-CS" sz="4800" spc="-1" strike="noStrike">
                <a:solidFill>
                  <a:srgbClr val="a50021"/>
                </a:solidFill>
                <a:latin typeface="Arial"/>
                <a:ea typeface="Arial"/>
              </a:rPr>
              <a:t>≤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0" lang="el-GR" sz="4800" spc="-1" strike="noStrike">
                <a:solidFill>
                  <a:srgbClr val="a50021"/>
                </a:solidFill>
                <a:latin typeface="Arial"/>
                <a:ea typeface="Arial"/>
              </a:rPr>
              <a:t>σ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  <a:ea typeface="Arial"/>
              </a:rPr>
              <a:t>d</a:t>
            </a:r>
            <a:r>
              <a:rPr b="0" lang="sr-Latn-CS" sz="48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sr-Latn-CS" sz="4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sr-Latn-CS" sz="4800" spc="-1" strike="noStrike">
                <a:solidFill>
                  <a:srgbClr val="a50021"/>
                </a:solidFill>
                <a:latin typeface="Arial"/>
                <a:ea typeface="Arial"/>
              </a:rPr>
              <a:t>≤</a:t>
            </a:r>
            <a:r>
              <a:rPr b="0" lang="sr-Latn-CS" sz="4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Ovakav koncept proračuna prisutan je i kod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rvenih,zidanih,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čeličnih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betonskih konstrukci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b7e7ff"/>
                </a:solidFill>
                <a:latin typeface="Arial"/>
              </a:rPr>
              <a:t>B. </a:t>
            </a:r>
            <a:r>
              <a:rPr b="1" i="1" lang="sr-CS" sz="4000" spc="-1" strike="noStrike">
                <a:solidFill>
                  <a:srgbClr val="b7e7ff"/>
                </a:solidFill>
                <a:latin typeface="Arial"/>
              </a:rPr>
              <a:t>Proračun prema graničnim stanjima nosivosti sa globalnim  </a:t>
            </a:r>
            <a:r>
              <a:rPr b="1" i="1" lang="sr-C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1" i="1" lang="sr-CS" sz="4000" spc="-1" strike="noStrike">
                <a:solidFill>
                  <a:srgbClr val="b7e7ff"/>
                </a:solidFill>
                <a:latin typeface="Arial"/>
              </a:rPr>
              <a:t>     koeficijentom sigurnosti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zadato opterećenje se multiplicira sa globalnim koeficijentom sigurnosti </a:t>
            </a:r>
            <a:r>
              <a:rPr b="0" lang="sr-C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pa se stvarni napo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upoređuje sa karakterističnom čvrstoćom materijala fk, odnos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54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lang="sr-CS" sz="5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l-GR" sz="5400" spc="-1" strike="noStrike">
                <a:solidFill>
                  <a:srgbClr val="a50021"/>
                </a:solidFill>
                <a:latin typeface="Arial"/>
                <a:ea typeface="Arial"/>
              </a:rPr>
              <a:t>σ</a:t>
            </a:r>
            <a:r>
              <a:rPr b="0" lang="sr-Latn-CS" sz="5400" spc="-1" strike="noStrike">
                <a:solidFill>
                  <a:srgbClr val="a50021"/>
                </a:solidFill>
                <a:latin typeface="Arial"/>
                <a:ea typeface="Arial"/>
              </a:rPr>
              <a:t>= </a:t>
            </a:r>
            <a:r>
              <a:rPr b="0" lang="sr-CS" sz="54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lang="sr-CS" sz="2800" spc="-1" strike="noStrike">
                <a:solidFill>
                  <a:srgbClr val="a50021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b7e7ff"/>
                </a:solidFill>
                <a:latin typeface="Arial"/>
              </a:rPr>
              <a:t>C. Proračun prema graničnim stanjima nosivosti sa parcijalnim </a:t>
            </a:r>
            <a:r>
              <a:rPr b="1" i="1" lang="sr-C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1" i="1" lang="sr-C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1" i="1" lang="sr-CS" sz="4000" spc="-1" strike="noStrike">
                <a:solidFill>
                  <a:srgbClr val="b7e7ff"/>
                </a:solidFill>
                <a:latin typeface="Arial"/>
              </a:rPr>
              <a:t>koeficijentima sigurnosti</a:t>
            </a:r>
            <a:r>
              <a:rPr b="0" lang="sr-C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tvarni napo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množ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se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ercijalnim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koeficijentim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 određenu vrstu opterećenja </a:t>
            </a:r>
            <a:r>
              <a:rPr b="0" lang="sr-CS" sz="3200" spc="-1" strike="noStrike">
                <a:solidFill>
                  <a:srgbClr val="a50021"/>
                </a:solidFill>
                <a:latin typeface="Arial"/>
              </a:rPr>
              <a:t>( </a:t>
            </a:r>
            <a:r>
              <a:rPr b="0" lang="sr-CS" sz="32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lang="sr-CS" sz="3200" spc="-1" strike="noStrike">
                <a:solidFill>
                  <a:srgbClr val="a50021"/>
                </a:solidFill>
                <a:latin typeface="Arial"/>
              </a:rPr>
              <a:t>i)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karakteristična vrednost čvrstoće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li se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a koeficijentom sigurnosti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 materijale </a:t>
            </a:r>
            <a:r>
              <a:rPr b="0" lang="sr-Latn-CS" sz="3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lang="sr-CS" sz="3200" spc="-1" strike="noStrike">
                <a:solidFill>
                  <a:srgbClr val="a50021"/>
                </a:solidFill>
                <a:latin typeface="Arial"/>
              </a:rPr>
              <a:t> </a:t>
            </a:r>
            <a:r>
              <a:rPr b="0" lang="sr-CS" sz="32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54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sr-CS" sz="5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a50021"/>
                </a:solidFill>
                <a:latin typeface="Arial"/>
              </a:rPr>
              <a:t>i </a:t>
            </a:r>
            <a:r>
              <a:rPr b="0" i="1" lang="el-GR" sz="5400" spc="-1" strike="noStrike">
                <a:solidFill>
                  <a:srgbClr val="a50021"/>
                </a:solidFill>
                <a:latin typeface="Arial"/>
                <a:ea typeface="Arial"/>
              </a:rPr>
              <a:t>σ</a:t>
            </a:r>
            <a:r>
              <a:rPr b="0" i="1" lang="sr-Latn-CS" sz="2000" spc="-1" strike="noStrike">
                <a:solidFill>
                  <a:srgbClr val="a50021"/>
                </a:solidFill>
                <a:latin typeface="Arial"/>
                <a:ea typeface="Arial"/>
              </a:rPr>
              <a:t>i</a:t>
            </a:r>
            <a:r>
              <a:rPr b="0" i="1" lang="sr-Latn-CS" sz="5400" spc="-1" strike="noStrike">
                <a:solidFill>
                  <a:srgbClr val="a50021"/>
                </a:solidFill>
                <a:latin typeface="Arial"/>
                <a:ea typeface="Arial"/>
              </a:rPr>
              <a:t>= </a:t>
            </a:r>
            <a:r>
              <a:rPr b="0" i="1" lang="sr-CS" sz="54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i="1" lang="sr-CS" sz="20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i="1" lang="sr-Latn-CS" sz="2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i="1" lang="sr-Latn-CS" sz="4800" spc="-1" strike="noStrike">
                <a:solidFill>
                  <a:srgbClr val="a50021"/>
                </a:solidFill>
                <a:latin typeface="Arial"/>
              </a:rPr>
              <a:t>/</a:t>
            </a:r>
            <a:r>
              <a:rPr b="0" i="1" lang="sr-Latn-C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sr-CS" sz="54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sr-Latn-CS" sz="2000" spc="-1" strike="noStrike">
                <a:solidFill>
                  <a:srgbClr val="a50021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7e7ff"/>
                </a:solidFill>
                <a:latin typeface="Arial"/>
              </a:rPr>
              <a:t>ČVRSTOĆA MTERIJAL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Srednja vredn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st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vrstoće </a:t>
            </a:r>
            <a:r>
              <a:rPr b="0" lang="sr-CS" sz="2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sr-CS" sz="2800" spc="-1" strike="noStrike">
                <a:solidFill>
                  <a:srgbClr val="ee941c"/>
                </a:solidFill>
                <a:latin typeface="Arial"/>
              </a:rPr>
              <a:t>srednju vrednost </a:t>
            </a:r>
            <a:r>
              <a:rPr b="0" i="1" lang="sr-Latn-CS" sz="2800" spc="-1" strike="noStrike">
                <a:solidFill>
                  <a:srgbClr val="ee941c"/>
                </a:solidFill>
                <a:latin typeface="Arial"/>
              </a:rPr>
              <a:t>napona </a:t>
            </a:r>
            <a:r>
              <a:rPr b="0" i="1" lang="sr-CS" sz="2800" spc="-1" strike="noStrike">
                <a:solidFill>
                  <a:srgbClr val="ee941c"/>
                </a:solidFill>
                <a:latin typeface="Arial"/>
              </a:rPr>
              <a:t>pri slomu</a:t>
            </a:r>
            <a:r>
              <a:rPr b="0" i="1" lang="en-US" sz="2800" spc="-1" strike="noStrike">
                <a:solidFill>
                  <a:srgbClr val="ee941c"/>
                </a:solidFill>
                <a:latin typeface="Arial"/>
              </a:rPr>
              <a:t>)</a:t>
            </a:r>
            <a:r>
              <a:rPr b="0" i="1" lang="sr-C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Osnovna vrednost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vrstoće   </a:t>
            </a:r>
            <a:r>
              <a:rPr b="0" lang="sr-CS" sz="2800" spc="-1" strike="noStrike">
                <a:solidFill>
                  <a:srgbClr val="a50021"/>
                </a:solidFill>
                <a:latin typeface="Arial"/>
              </a:rPr>
              <a:t>f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ee941c"/>
                </a:solidFill>
                <a:latin typeface="Arial"/>
              </a:rPr>
              <a:t>(</a:t>
            </a:r>
            <a:r>
              <a:rPr b="0" i="1" lang="sr-CS" sz="2800" spc="-1" strike="noStrike">
                <a:solidFill>
                  <a:srgbClr val="ee941c"/>
                </a:solidFill>
                <a:latin typeface="Arial"/>
              </a:rPr>
              <a:t>redukovana vrednost napona loma koeficijentom koji uzima u obzir uticaj veličine i oblika elementa, vrste i trajanje opterećenja i stepena sigurnosti konstrukcij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Karakteristična vrednost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vrstoće </a:t>
            </a:r>
            <a:r>
              <a:rPr b="0" lang="sr-CS" sz="2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a50021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ee941c"/>
                </a:solidFill>
                <a:latin typeface="Arial"/>
              </a:rPr>
              <a:t>(</a:t>
            </a:r>
            <a:r>
              <a:rPr b="0" i="1" lang="sr-CS" sz="2800" spc="-1" strike="noStrike">
                <a:solidFill>
                  <a:srgbClr val="ee941c"/>
                </a:solidFill>
                <a:latin typeface="Arial"/>
              </a:rPr>
              <a:t>vrednost 5% fraktila na statističkoj krivi raspodele vrednosti čvrstoća</a:t>
            </a:r>
            <a:r>
              <a:rPr b="0" i="1" lang="en-US" sz="2800" spc="-1" strike="noStrike">
                <a:solidFill>
                  <a:srgbClr val="ee941c"/>
                </a:solidFill>
                <a:latin typeface="Arial"/>
              </a:rPr>
              <a:t>)</a:t>
            </a:r>
            <a:r>
              <a:rPr b="0" i="1" lang="sr-CS" sz="2800" spc="-1" strike="noStrike">
                <a:solidFill>
                  <a:srgbClr val="ee941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7e7ff"/>
                </a:solidFill>
                <a:latin typeface="Arial"/>
              </a:rPr>
              <a:t>Ekonomičnost</a:t>
            </a:r>
            <a:r>
              <a:rPr b="0" lang="sr-Latn-CS" sz="4400" spc="-1" strike="noStrike">
                <a:solidFill>
                  <a:srgbClr val="b7e7ff"/>
                </a:solidFill>
                <a:latin typeface="Arial"/>
              </a:rPr>
              <a:t> objekt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konomičnost obvjek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cepciji projektovanja-prorač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koštanju gradnj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za sve vreme -eksploatacij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ržavanj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Osnovni zahtevi projektovanog objekta 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unkciona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uzdanost (</a:t>
            </a:r>
            <a:r>
              <a:rPr b="0" lang="sr-Latn-CS" sz="3200" spc="-1" strike="noStrike">
                <a:solidFill>
                  <a:srgbClr val="00cc99"/>
                </a:solidFill>
                <a:latin typeface="Arial"/>
              </a:rPr>
              <a:t>reliabillity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) konstruk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gurnos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sr-Latn-CS" sz="2400" spc="-1" strike="noStrike">
                <a:solidFill>
                  <a:srgbClr val="ffcc00"/>
                </a:solidFill>
                <a:latin typeface="Arial"/>
              </a:rPr>
              <a:t>(dejstva, projektovanje i izvođenje)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potrebljivost      </a:t>
            </a:r>
            <a:r>
              <a:rPr b="0" i="1" lang="sr-Latn-CS" sz="2400" spc="-1" strike="noStrike">
                <a:solidFill>
                  <a:srgbClr val="ffcc00"/>
                </a:solidFill>
                <a:latin typeface="Arial"/>
              </a:rPr>
              <a:t>(deformacije,vibracije i oštećenja)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trajnos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konstrukcij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USKLAĐENOST SVOJSTAVA OBJEKTA, ŽIVOTNE SREDINE I PROJEK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zbor lokacije objekta u skladu sa uslovima životne sre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naliza mogućih dejstava na konstrukci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zbor arhitektonskog rešenja, konstrukcijskog sistema,fundiranja,izbor materijala i načina izvođenja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zavisno od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amene i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sta gradnje budu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g objek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vera kvali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sr-Latn-CS" sz="1800" spc="-1" strike="noStrike">
                <a:solidFill>
                  <a:srgbClr val="ffcc00"/>
                </a:solidFill>
                <a:latin typeface="Arial"/>
              </a:rPr>
              <a:t>(planiranje, projektovanje i izvođen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drža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Pouzdanost </a:t>
            </a: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renošenja opterećenja </a:t>
            </a: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sa objekta </a:t>
            </a: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na tl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"/>
              </a:rPr>
              <a:t>A. Dubina fundir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vrsta materijala tl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meteorološki uslov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m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jenje tla i otkravljivanj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ubrenje odnosno raskvašavanje tl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nivo podzemne vode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i, eventualno, posebni uslov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49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Pouzdanost </a:t>
            </a: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renošenja opterećenja </a:t>
            </a: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sa objekta </a:t>
            </a: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na tl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08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"/>
              </a:rPr>
              <a:t>B. Dimenzije stope temelja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na osnovu dozvoljenih sleganja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na osnovu dopu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nih naprezanja t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obavezna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dentifikacija i klasifikacija tl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b7e7ff"/>
                </a:solidFill>
                <a:latin typeface="Arial"/>
              </a:rPr>
              <a:t>Ostali zahtevi projektovanj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strukcijski zaht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htevi hidro, termo i zvučne izolova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tivpožarni zaht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htevi zaštite životne 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htevi instal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stetski zaht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OSNOVNI KONSTRUKCIJSKI ZAHTEVI PROJEKTOVANJA I IZVOĐENJA OBJEKA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438280"/>
            <a:ext cx="8537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jem dejstava u toku izvođenja 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ksploat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tporne na lokalna ošteć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sr-Latn-CS" sz="2400" spc="-1" strike="noStrike">
                <a:solidFill>
                  <a:srgbClr val="ffcc00"/>
                </a:solidFill>
                <a:latin typeface="Arial"/>
              </a:rPr>
              <a:t>(eksplozije, vatra, udar vozil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strukcija se ponaša u skladu sa  očekivanim uslovima upotre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ee941c"/>
                </a:solidFill>
                <a:latin typeface="Arial"/>
              </a:rPr>
              <a:t>DEJSTVA</a:t>
            </a:r>
            <a:r>
              <a:rPr b="0" lang="sr-Latn-CS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sr-Latn-CS" sz="2800" spc="-1" strike="noStrike">
                <a:solidFill>
                  <a:srgbClr val="b7e7ff"/>
                </a:solidFill>
                <a:latin typeface="Arial"/>
              </a:rPr>
              <a:t>IZ SPOLJAŠNJE SREDINE NA KONSTRUKCIJE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EHANIČKA DEJST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LAŽ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JSTVO HEMIJSKI AGRESVNE SRED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JSTVO BIOLOŠKIH AGEN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AMRZA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MBUJENT KONSTRUKC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JSTVO UV ZRA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b7e7ff"/>
                </a:solidFill>
                <a:latin typeface="Arial"/>
              </a:rPr>
              <a:t>Verovatnoća inteziteta dejstav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ne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izm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ksploz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dar voz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dar le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20:47:15Z</dcterms:created>
  <dc:creator>Racunar</dc:creator>
  <dc:description/>
  <dc:language>en-US</dc:language>
  <cp:lastModifiedBy>STOJIC</cp:lastModifiedBy>
  <dcterms:modified xsi:type="dcterms:W3CDTF">2008-05-04T16:25:37Z</dcterms:modified>
  <cp:revision>18</cp:revision>
  <dc:subject/>
  <dc:title>Osnovni zahtevi projektovanog objekta : </dc:title>
</cp:coreProperties>
</file>